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FFA-F649-4A1F-AC0D-2FCDDD49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0FF-6DC6-4B94-B8FA-06F68350C0E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66C6-591D-41C5-8B5B-F893A0FBC2B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4BF-767D-4D62-B355-A227B0EF5C5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A6E-A69D-4FD5-9D39-4E1AB15E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3A5-5122-4496-9CBC-0B166C4E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3D3-C7E9-4C88-A602-13CF4BBD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A69-7481-464E-9AB3-2AAF7686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A341-50FD-42E0-B4BD-B6E2863D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262B-1177-4A4B-8339-1FEAB22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680B-34E9-497E-A60A-9CB4442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EC87-B273-45CE-94BB-D65FC23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ACDD-607F-4517-9338-39A88781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A680-3C6B-4990-8F7D-D7AD040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81A0-633A-4CB3-8F91-F0EFB2D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3C1-67DF-40D1-A7A1-629E365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A49D-6E2F-4797-9C0A-0170763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82AE-7168-4662-8AE4-BAF702C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768-5B5D-40ED-BCAA-4C95B56B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613-9795-418A-B272-AB6F1B33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1413-E9D5-4965-96D9-CE902F65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E1E-21ED-4EFB-9904-0E21A770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FB-C05A-4621-B77D-0258F20A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4F8-52D2-4D95-9AA5-AE90D9A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603-6657-49C0-97CE-EA5408E5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263-4CFE-43A5-9EDF-E2AFF6C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63E-4372-4CE0-8B3F-38F73F5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AA9-5875-4D68-ACBE-423599CE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7C7-2AE8-4DE4-983E-6FFA0524F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9D3-F0DA-471D-AD3C-D9547D107CAC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sessing Texts to Plan for Explicit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what you’ve learned about narrative and expository text features AND how to scaffold understanding of challenging text to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ocate &amp; n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ing featur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/or cont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pose a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ructional practic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could be used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ly teach about expository tex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building comprehension and motiva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read further at each of these challenging poin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en in the teaching cycl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would integrate this practice (before, during, and/or afte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4" name="Picture 3" descr="Screen shot 2012-09-30 at 11.22.13 AM.png"/>
          <p:cNvPicPr/>
          <p:nvPr/>
        </p:nvPicPr>
        <p:blipFill>
          <a:blip r:embed="rId3"/>
          <a:stretch/>
        </p:blipFill>
        <p:spPr>
          <a:xfrm>
            <a:off x="7467480" y="6858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Common Core Standards material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7" name="Picture 5" descr="Screen shot 2013-09-29 at 5.48.51 PM.png"/>
          <p:cNvPicPr/>
          <p:nvPr/>
        </p:nvPicPr>
        <p:blipFill>
          <a:blip r:embed="rId2"/>
          <a:stretch/>
        </p:blipFill>
        <p:spPr>
          <a:xfrm>
            <a:off x="4114800" y="133200"/>
            <a:ext cx="50292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ynthesize key ideas about </a:t>
            </a: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narrative and expository text structu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extbook, Karen Wixson, and Barbara Mos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ee a model of explicit instruction around expository text (I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ractice planning explicit instruction around expository text (We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urn and Tal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c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tween narrative and expository tex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ich texts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re challeng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readers and why?  Use evidence from your readings to support your reason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this context, what do you think is the meaning of the phrase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urth grade slump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How might we counteract the fourth grade slump? </a:t>
            </a: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(Wixson? Moss? Cornett?)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to more informational texts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Wixson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creases vocab, comprehension, motivation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uilds knowledge of expository text structur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mproves reading, writing, content knowledge and home-school literacy connection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and explicit instructio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Moss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Model and practice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telling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s precursor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ynthesi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ttend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ext structure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ignal words,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lationships between idea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ake advantage of enthusiasm and link to real world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rrative Texts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tell a story) …</a:t>
            </a:r>
            <a:br>
              <a:rPr sz="2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characters confront problems &gt; which sets up a plot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nd where does the story take plac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he story about? Who wants something?  By the end, who changes the mos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problem? What happened? Why? How was the problem solve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ext really about? What’s the universal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elling the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words used in special ways (e.g., fig. lang, mood, humor, iron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s (to explain, inform, or persuad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ccurate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Vs Information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lends non-fiction with some narrative elemen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ositiona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= “explanatory” writing with common thinking patterns &gt; which pattern(s) does the author use to make his argu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common expository text patterns?  What signal words are associated with each pattern? 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 Patter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use/Eff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scription/Explan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blem-Solu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588920" y="2052720"/>
            <a:ext cx="338400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, in contrast, while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587480" y="2666880"/>
            <a:ext cx="3250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therefore; if/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89280" y="3500280"/>
            <a:ext cx="3228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example; detail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92160" y="4267080"/>
            <a:ext cx="3925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rst, second, next, finally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90720" y="4948200"/>
            <a:ext cx="4092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, question, answer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1"/>
          <p:cNvCxnSpPr>
            <a:endCxn id="105" idx="1"/>
          </p:cNvCxnSpPr>
          <p:nvPr/>
        </p:nvCxnSpPr>
        <p:spPr>
          <a:xfrm flipV="1">
            <a:off x="4191120" y="228420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/>
          <p:nvPr/>
        </p:nvCxnSpPr>
        <p:spPr>
          <a:xfrm>
            <a:off x="3352320" y="2895120"/>
            <a:ext cx="1143720" cy="10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V="1">
            <a:off x="3124080" y="3809160"/>
            <a:ext cx="137232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V="1">
            <a:off x="2895120" y="4571640"/>
            <a:ext cx="160092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4114800" y="510516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15" name="TextBox 13"/>
          <p:cNvSpPr/>
          <p:nvPr/>
        </p:nvSpPr>
        <p:spPr>
          <a:xfrm>
            <a:off x="1490040" y="5657760"/>
            <a:ext cx="7011360" cy="1191240"/>
          </a:xfrm>
          <a:prstGeom prst="rect">
            <a:avLst/>
          </a:prstGeom>
          <a:solidFill>
            <a:srgbClr val="ffe2aa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o these signal words help build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ental representation of the text? What happens if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signal words are not in the text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factors make texts difficult? (your handout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980720"/>
            <a:ext cx="77724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ext structu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mes and ideas (the big pictur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anguage and literary featu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ocabulary and wor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ntence complex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ook and print featu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343400" y="2057400"/>
            <a:ext cx="4114800" cy="1313640"/>
          </a:xfrm>
          <a:prstGeom prst="rect">
            <a:avLst/>
          </a:prstGeom>
          <a:solidFill>
            <a:srgbClr val="ffe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How (and when) can explicit instruction help focus students’ attention on these elements to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build deeper understanding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deling Explicit Instruction of Expository Text Comprehens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0" name="Picture 3" descr="Screen shot 2012-09-30 at 11.22.13 AM.png"/>
          <p:cNvPicPr/>
          <p:nvPr/>
        </p:nvPicPr>
        <p:blipFill>
          <a:blip r:embed="rId1"/>
          <a:stretch/>
        </p:blipFill>
        <p:spPr>
          <a:xfrm>
            <a:off x="533520" y="2133720"/>
            <a:ext cx="30430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764880" y="1905120"/>
            <a:ext cx="4906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an you imagine digging a hol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your backyard to plant some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lowers and, to your surpri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uncover treasures from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re than 1,000 years ago?? </a:t>
            </a:r>
            <a:br>
              <a:rPr sz="2400"/>
            </a:b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would you do?  Would you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ell anyon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’s read The First Discovery to find out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ppened when a farmer named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nzecchetta digs out a well in southern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aly to discover something unbelievable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4:40:05Z</dcterms:created>
  <dc:creator>Julie Coiro</dc:creator>
  <dc:description/>
  <dc:language>en-US</dc:language>
  <cp:lastModifiedBy>Julie Coiro</cp:lastModifiedBy>
  <dcterms:modified xsi:type="dcterms:W3CDTF">2013-10-01T16:42:52Z</dcterms:modified>
  <cp:revision>218</cp:revision>
  <dc:subject/>
  <dc:title>Metacognitive Strategy Instruction to Enhance Reading Comprehension</dc:title>
</cp:coreProperties>
</file>